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8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548-E7A2-4990-B4DE-F4914B58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A5E-7934-4234-962A-AB4DED2C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E03-7145-451C-8873-21004040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20F-303F-4A34-8D72-F581D852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DFE4-2565-488A-B5EC-7E23A97B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87E6-33E7-4291-8B22-40AC1B92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CFC1-1410-46C2-B75C-4D7D5352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74C3-0D36-4503-B360-295FE6B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818C-8B34-4907-A826-6B8B1CAF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8803-1C5D-4DF4-BB68-55FE3642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4BFA-1A95-4443-ABE4-D7FFFD6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E78-6AF3-47CF-B558-8504D9F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225C-F624-4135-AD67-5159D9B6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98E0-9316-4805-9863-A4B716E8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DFC8-4C37-4EAC-84E2-8233D2AF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82D9-9DA7-4F42-997B-4EDDB58E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F2C2-B7DA-499B-98C7-F08A73F2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BEBC-B4CE-4BC6-AFBF-A2347933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F571-7D26-467E-AAE0-ECFB69D3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31E8-2BAB-4AA7-B139-F7FA4A07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528F-04B8-4923-9042-563A2419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BBFC-97B2-4FA4-A3F9-5FF189DD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9C2-AB46-4A65-9FCA-FC579D1C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EFDA-C282-4CD3-8160-E438DF2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1F6F-5D60-45F8-BF16-402354E6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9816-304E-4478-B048-E8F87C4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DA04-F287-447F-9935-729FB4D0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52C95-E854-4926-B692-1FEE13AB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7C86-6D34-4B55-82F8-FC20E598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0588-C728-41EC-8B15-07F6FFA6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DF97-A45D-4C5E-A814-F196098F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BDDE-009A-497F-A67B-B18B80E5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062D6-A0D4-4528-B926-CF8A89A1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19A-7FC8-4CED-8D9B-A782C02A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8C90-4AEA-44FF-811C-6F1B1552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5401-4639-47D6-9BB0-83F83E8D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A0C1-3F0F-4B04-8238-6A538A4E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66BB-1E71-46D5-AC2F-642A7530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8F55-3A72-4CAE-BFB7-67D61AC0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9444-003C-41E7-9A78-DC023574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4CE5-7B17-46D7-B60C-9AE750B5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4ECD-285A-4987-897B-EAA15A96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954E-1B2E-4F4A-9E9A-35A40BE6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FA287-9E93-4500-B596-39917D23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77B-6814-489D-9112-6F8EE651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3ABF-21B8-4A0C-9465-8B2664D4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39E28-F45E-4C2F-88CB-2CDF291F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AB96-ACD2-4AB4-A2AA-C0AAE46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6017-27FC-4ACA-B238-AF1AA9EE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2453C-B2E8-4477-9D02-C5D04F75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38AE5-0C06-4E27-A3F9-184E7216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0B6A-F5E4-47AF-974E-CCEA8C9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60B73-10CF-47D8-9DE2-4F6E4127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7C3A-9655-4764-BCC1-45626029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276C6-07D0-4D4B-84DF-9103B12F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8D5-FB4F-49A7-944A-CC7BBE83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03E2A-0686-4C4A-9A68-5BDA5600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B3D9A-17C3-417F-97BF-2C545B3D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74226-A56A-4E61-B162-798496DE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7F22C-5AAF-4446-B662-F5102E2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B87D6-3A93-4C17-AEF5-8128AB0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AEA06-6995-436B-9F87-9AC5F1F9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30D0-08DA-408A-AEAD-41FC28D0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E9755-C5E4-40A8-B3F1-2259FCE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AEABD-B97A-4F79-870D-0527E6E5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49460-E928-4EE0-B6A1-8A1E066E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DB1-72F7-41F4-BC15-90B3099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6DD1-3143-4B9D-A409-71DA0A34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34EAE-9BC9-4CF4-ABA9-6DEF3981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33906-B5A4-4369-B5EB-E7C53FC5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1D4EA-E9A1-4739-AF80-0F3B342F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92A2E-28B2-4C77-B243-229B1171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1007-58F2-4CB5-94E3-9442F09F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53C4A-D524-4EB5-B51C-9CEF05BA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4FDB-9F71-459D-AE98-3A43A99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FCD2-8B3E-48CD-B88D-711E85E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DD73F-A537-4667-88E3-3238B32A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BEF-C406-469D-8A98-891F70DF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FDA5A-DB75-4906-8E3C-3B82D7C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E415F-E7E6-4C5C-9770-3B64733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9E8FC-02FA-47A8-B31B-E6152EC9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8C68-4BCA-4379-83A4-D74FC8D4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042D8-3339-4766-8E1D-924C9406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4ED-7F9E-48D1-A07D-4BB5C02F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8BA6-749B-4EB5-AF72-79C7DF70EFE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1727-E46A-4B80-8039-BD3F145CF6F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602B-2835-4037-A064-EA01F9FC6F6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DDF-BBF2-47F5-AF51-09E488F1D73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B25E-4DD6-4A0D-B4B3-2CEA87E2555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E99E-84C1-4C9E-8DDB-288FDB3DFF8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8944-A380-42B7-8329-45B2322120F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Oval 3"/>
          <p:cNvSpPr/>
          <p:nvPr/>
        </p:nvSpPr>
        <p:spPr>
          <a:xfrm>
            <a:off x="2819520" y="1600200"/>
            <a:ext cx="3429000" cy="2209680"/>
          </a:xfrm>
          <a:prstGeom prst="ellipse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Natural Components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loud Callout 4"/>
          <p:cNvSpPr/>
          <p:nvPr/>
        </p:nvSpPr>
        <p:spPr>
          <a:xfrm>
            <a:off x="457200" y="3733920"/>
            <a:ext cx="2743200" cy="2060280"/>
          </a:xfrm>
          <a:prstGeom prst="cloudCallout">
            <a:avLst>
              <a:gd name="adj1" fmla="val 40874"/>
              <a:gd name="adj2" fmla="val -7092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loud Callout 5"/>
          <p:cNvSpPr/>
          <p:nvPr/>
        </p:nvSpPr>
        <p:spPr>
          <a:xfrm>
            <a:off x="2971800" y="4343400"/>
            <a:ext cx="3429000" cy="1828800"/>
          </a:xfrm>
          <a:prstGeom prst="cloudCallout">
            <a:avLst>
              <a:gd name="adj1" fmla="val -1407"/>
              <a:gd name="adj2" fmla="val -76731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loud Callout 6"/>
          <p:cNvSpPr/>
          <p:nvPr/>
        </p:nvSpPr>
        <p:spPr>
          <a:xfrm>
            <a:off x="6400800" y="3200400"/>
            <a:ext cx="2743200" cy="1676520"/>
          </a:xfrm>
          <a:prstGeom prst="cloudCallout">
            <a:avLst>
              <a:gd name="adj1" fmla="val -56509"/>
              <a:gd name="adj2" fmla="val -5171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Oval 3"/>
          <p:cNvSpPr/>
          <p:nvPr/>
        </p:nvSpPr>
        <p:spPr>
          <a:xfrm>
            <a:off x="228600" y="3048120"/>
            <a:ext cx="3733920" cy="1904760"/>
          </a:xfrm>
          <a:prstGeom prst="ellipse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cial &amp; Psychological Components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iley Face 4"/>
          <p:cNvSpPr/>
          <p:nvPr/>
        </p:nvSpPr>
        <p:spPr>
          <a:xfrm>
            <a:off x="5105520" y="1905120"/>
            <a:ext cx="3733560" cy="1752480"/>
          </a:xfrm>
          <a:prstGeom prst="smileyFace">
            <a:avLst>
              <a:gd name="adj" fmla="val 928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National Self-I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iley Face 5"/>
          <p:cNvSpPr/>
          <p:nvPr/>
        </p:nvSpPr>
        <p:spPr>
          <a:xfrm>
            <a:off x="3962520" y="4267080"/>
            <a:ext cx="4647960" cy="2286000"/>
          </a:xfrm>
          <a:prstGeom prst="smileyFace">
            <a:avLst>
              <a:gd name="adj" fmla="val 928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Public Support &amp;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Bent Arrow 6"/>
          <p:cNvSpPr/>
          <p:nvPr/>
        </p:nvSpPr>
        <p:spPr>
          <a:xfrm>
            <a:off x="2590920" y="2438280"/>
            <a:ext cx="2438280" cy="609840"/>
          </a:xfrm>
          <a:custGeom>
            <a:avLst/>
            <a:gdLst/>
            <a:ahLst/>
            <a:rect l="l" t="t" r="r" b="b"/>
            <a:pathLst>
              <a:path w="2438400" h="609600">
                <a:moveTo>
                  <a:pt x="0" y="609600"/>
                </a:moveTo>
                <a:lnTo>
                  <a:pt x="0" y="324143"/>
                </a:lnTo>
                <a:lnTo>
                  <a:pt x="0" y="324143"/>
                </a:lnTo>
                <a:arcTo wR="266700" hR="266700" stAng="10800000" swAng="5400000"/>
                <a:lnTo>
                  <a:pt x="2286000" y="57443"/>
                </a:lnTo>
                <a:lnTo>
                  <a:pt x="2286000" y="0"/>
                </a:lnTo>
                <a:lnTo>
                  <a:pt x="2438400" y="152400"/>
                </a:lnTo>
                <a:lnTo>
                  <a:pt x="2286000" y="304800"/>
                </a:lnTo>
                <a:lnTo>
                  <a:pt x="2286000" y="247357"/>
                </a:lnTo>
                <a:lnTo>
                  <a:pt x="266700" y="247357"/>
                </a:lnTo>
                <a:lnTo>
                  <a:pt x="266700" y="247357"/>
                </a:lnTo>
                <a:arcTo wR="76785" hR="76785" stAng="-5400000" swAng="-5400000"/>
                <a:lnTo>
                  <a:pt x="189915" y="6096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Notched Right Arrow 9"/>
          <p:cNvSpPr/>
          <p:nvPr/>
        </p:nvSpPr>
        <p:spPr>
          <a:xfrm>
            <a:off x="2133720" y="4648320"/>
            <a:ext cx="2209680" cy="533160"/>
          </a:xfrm>
          <a:custGeom>
            <a:avLst/>
            <a:gdLst>
              <a:gd name="textAreaLeft" fmla="*/ 133200 w 2209680"/>
              <a:gd name="textAreaRight" fmla="*/ 2076480 w 22096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93" y="5400"/>
                </a:lnTo>
                <a:lnTo>
                  <a:pt x="18993" y="0"/>
                </a:lnTo>
                <a:lnTo>
                  <a:pt x="21600" y="10800"/>
                </a:lnTo>
                <a:lnTo>
                  <a:pt x="18993" y="21600"/>
                </a:lnTo>
                <a:lnTo>
                  <a:pt x="18993" y="16200"/>
                </a:lnTo>
                <a:lnTo>
                  <a:pt x="0" y="16200"/>
                </a:lnTo>
                <a:lnTo>
                  <a:pt x="130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Left-Right Arrow Callout 3"/>
          <p:cNvSpPr/>
          <p:nvPr/>
        </p:nvSpPr>
        <p:spPr>
          <a:xfrm>
            <a:off x="2057400" y="2743200"/>
            <a:ext cx="4572000" cy="3200400"/>
          </a:xfrm>
          <a:custGeom>
            <a:avLst/>
            <a:gdLst>
              <a:gd name="textAreaLeft" fmla="*/ 1185840 w 4572000"/>
              <a:gd name="textAreaRight" fmla="*/ 3386160 w 457200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7820" y="8100"/>
                </a:lnTo>
                <a:lnTo>
                  <a:pt x="17820" y="5500"/>
                </a:lnTo>
                <a:lnTo>
                  <a:pt x="21600" y="10800"/>
                </a:lnTo>
                <a:lnTo>
                  <a:pt x="17820" y="16100"/>
                </a:lnTo>
                <a:lnTo>
                  <a:pt x="17820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3780" y="13500"/>
                </a:lnTo>
                <a:lnTo>
                  <a:pt x="3780" y="16100"/>
                </a:lnTo>
                <a:lnTo>
                  <a:pt x="0" y="10800"/>
                </a:lnTo>
                <a:lnTo>
                  <a:pt x="3780" y="5500"/>
                </a:lnTo>
                <a:lnTo>
                  <a:pt x="3780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Synthetic Components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0" y="2133720"/>
            <a:ext cx="2133720" cy="4190760"/>
          </a:xfrm>
          <a:prstGeom prst="ellipse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Industrial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6553080" y="2209680"/>
            <a:ext cx="2590920" cy="4191120"/>
          </a:xfrm>
          <a:prstGeom prst="ellipse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Military 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oncert of Europe” as conducted by Prince Metternich of Austr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ance has continuing troub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dustrializ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ise and fall of Great Pow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2" descr="http://www.anselm.edu/academic/history/hdubrulle/ModernEurope/graphics/Map-Europe-1812.gif"/>
          <p:cNvPicPr/>
          <p:nvPr/>
        </p:nvPicPr>
        <p:blipFill>
          <a:blip r:embed="rId2"/>
          <a:stretch/>
        </p:blipFill>
        <p:spPr>
          <a:xfrm>
            <a:off x="914400" y="1581120"/>
            <a:ext cx="7391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6" descr="europe_after_vienna_1815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http://www.made-in-england.org/images/Cartoon-Political-Map.jpg"/>
          <p:cNvPicPr/>
          <p:nvPr/>
        </p:nvPicPr>
        <p:blipFill>
          <a:blip r:embed="rId2"/>
          <a:stretch/>
        </p:blipFill>
        <p:spPr>
          <a:xfrm>
            <a:off x="609480" y="15238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2" descr="http://www.rightwords.eu/imgupl/author/t-600x600/otto-von-bismarck--103--t-600x600-rw.jpg"/>
          <p:cNvPicPr/>
          <p:nvPr/>
        </p:nvPicPr>
        <p:blipFill>
          <a:blip r:embed="rId2"/>
          <a:stretch/>
        </p:blipFill>
        <p:spPr>
          <a:xfrm rot="21392400">
            <a:off x="436320" y="2322000"/>
            <a:ext cx="2733480" cy="445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://28.media.tumblr.com/tumblr_l71tpdVEhg1qcfftgo1_500.jpg"/>
          <p:cNvPicPr/>
          <p:nvPr/>
        </p:nvPicPr>
        <p:blipFill>
          <a:blip r:embed="rId3"/>
          <a:stretch/>
        </p:blipFill>
        <p:spPr>
          <a:xfrm rot="1192200">
            <a:off x="3255480" y="2055960"/>
            <a:ext cx="2955960" cy="4074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scharch.org/Ray_Baer/Prtrt%20-Kaiser%20Wilhelm%20II.JPG"/>
          <p:cNvPicPr/>
          <p:nvPr/>
        </p:nvPicPr>
        <p:blipFill>
          <a:blip r:embed="rId4"/>
          <a:stretch/>
        </p:blipFill>
        <p:spPr>
          <a:xfrm rot="20775000">
            <a:off x="6175080" y="3028680"/>
            <a:ext cx="2581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WORLD HISTORY TEXT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d p 630-63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“Guide to Reading” on page 6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Big Ide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tent Vocabul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ademic Vocabul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eople &amp;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tto von Bismarck, Alsace, Lorrain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ding Strateg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HE MODERN ERA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d p. 330-33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“Note Taking” strategy on p. 33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erms, People,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“Note Taking strategy on p. 33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erms, People,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d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Logic of Power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y Walter Jon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eate a graphic organizer for the information contained in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prepared to discuss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Make your own notes on the </a:t>
            </a:r>
            <a:r>
              <a:rPr b="1" i="1" lang="en-US" sz="4000" spc="-1" strike="noStrike">
                <a:solidFill>
                  <a:srgbClr val="000000"/>
                </a:solidFill>
                <a:latin typeface="Corbe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  …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You are more likely to remember th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   …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They are importa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C:\Users\gregory.peters\AppData\Local\Microsoft\Windows\Temporary Internet Files\Content.IE5\AYR7WRNZ\MC900431631[1].png"/>
          <p:cNvPicPr/>
          <p:nvPr/>
        </p:nvPicPr>
        <p:blipFill>
          <a:blip r:embed="rId2"/>
          <a:stretch/>
        </p:blipFill>
        <p:spPr>
          <a:xfrm>
            <a:off x="380880" y="2057400"/>
            <a:ext cx="2171880" cy="2171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C:\Users\gregory.peters\AppData\Local\Microsoft\Windows\Temporary Internet Files\Content.IE5\AYR7WRNZ\MC900318682[1].wmf"/>
          <p:cNvPicPr/>
          <p:nvPr/>
        </p:nvPicPr>
        <p:blipFill>
          <a:blip r:embed="rId3"/>
          <a:stretch/>
        </p:blipFill>
        <p:spPr>
          <a:xfrm>
            <a:off x="3124080" y="1828800"/>
            <a:ext cx="1825920" cy="1716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C:\Users\gregory.peters\AppData\Local\Microsoft\Windows\Temporary Internet Files\Content.IE5\SR2VS45E\MP900399277[1].jpg"/>
          <p:cNvPicPr/>
          <p:nvPr/>
        </p:nvPicPr>
        <p:blipFill>
          <a:blip r:embed="rId4"/>
          <a:stretch/>
        </p:blipFill>
        <p:spPr>
          <a:xfrm>
            <a:off x="5867280" y="2057400"/>
            <a:ext cx="2332080" cy="1865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C:\Users\gregory.peters\AppData\Local\Microsoft\Windows\Temporary Internet Files\Content.IE5\3U2G16HH\MC900287131[1].wmf"/>
          <p:cNvPicPr/>
          <p:nvPr/>
        </p:nvPicPr>
        <p:blipFill>
          <a:blip r:embed="rId5"/>
          <a:stretch/>
        </p:blipFill>
        <p:spPr>
          <a:xfrm>
            <a:off x="2133720" y="4191120"/>
            <a:ext cx="1739880" cy="1927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C:\Users\gregory.peters\AppData\Local\Microsoft\Windows\Temporary Internet Files\Content.IE5\52B8KMO2\MC900078734[1].wmf"/>
          <p:cNvPicPr/>
          <p:nvPr/>
        </p:nvPicPr>
        <p:blipFill>
          <a:blip r:embed="rId6"/>
          <a:stretch/>
        </p:blipFill>
        <p:spPr>
          <a:xfrm>
            <a:off x="4952880" y="4114800"/>
            <a:ext cx="24480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ability of an actor on the international stage to use tangible and intangible resources and assets in such a way as to influence the outcomes of international events to its own satisfac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--OR-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rbel"/>
              </a:rPr>
              <a:t>Using what you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have</a:t>
            </a:r>
            <a:r>
              <a:rPr b="0" lang="en-US" sz="3200" spc="-1" strike="noStrike">
                <a:solidFill>
                  <a:srgbClr val="002060"/>
                </a:solidFill>
                <a:latin typeface="Corbel"/>
              </a:rPr>
              <a:t> to get what you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3581280" y="3733920"/>
            <a:ext cx="1981440" cy="9144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loud Callout 4"/>
          <p:cNvSpPr/>
          <p:nvPr/>
        </p:nvSpPr>
        <p:spPr>
          <a:xfrm>
            <a:off x="5562720" y="1828800"/>
            <a:ext cx="2971800" cy="2057400"/>
          </a:xfrm>
          <a:prstGeom prst="cloudCallout">
            <a:avLst>
              <a:gd name="adj1" fmla="val -52430"/>
              <a:gd name="adj2" fmla="val 50583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Means by which countries deal with one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loud Callout 5"/>
          <p:cNvSpPr/>
          <p:nvPr/>
        </p:nvSpPr>
        <p:spPr>
          <a:xfrm>
            <a:off x="762120" y="1981080"/>
            <a:ext cx="4419360" cy="1752840"/>
          </a:xfrm>
          <a:prstGeom prst="cloudCallout">
            <a:avLst>
              <a:gd name="adj1" fmla="val 17680"/>
              <a:gd name="adj2" fmla="val 54472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Unique to each country based on material and behavioural resources available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loud Callout 6"/>
          <p:cNvSpPr/>
          <p:nvPr/>
        </p:nvSpPr>
        <p:spPr>
          <a:xfrm>
            <a:off x="609480" y="4572000"/>
            <a:ext cx="3581640" cy="2057400"/>
          </a:xfrm>
          <a:prstGeom prst="cloudCallout">
            <a:avLst>
              <a:gd name="adj1" fmla="val 47671"/>
              <a:gd name="adj2" fmla="val -45180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A means of achieving influence over others who want the same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 Callout 7"/>
          <p:cNvSpPr/>
          <p:nvPr/>
        </p:nvSpPr>
        <p:spPr>
          <a:xfrm>
            <a:off x="4952880" y="4724280"/>
            <a:ext cx="4038840" cy="2133720"/>
          </a:xfrm>
          <a:prstGeom prst="cloudCallout">
            <a:avLst>
              <a:gd name="adj1" fmla="val -42027"/>
              <a:gd name="adj2" fmla="val -58314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When used rationally it improves or maintains a countries international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Left-Right-Up Arrow 3"/>
          <p:cNvSpPr/>
          <p:nvPr/>
        </p:nvSpPr>
        <p:spPr>
          <a:xfrm>
            <a:off x="3124080" y="3200400"/>
            <a:ext cx="2438640" cy="1371600"/>
          </a:xfrm>
          <a:custGeom>
            <a:avLst/>
            <a:gdLst>
              <a:gd name="textAreaLeft" fmla="*/ 171360 w 2438640"/>
              <a:gd name="textAreaRight" fmla="*/ 2267280 w 2438640"/>
              <a:gd name="textAreaTop" fmla="*/ 857160 h 1371600"/>
              <a:gd name="textAreaBottom" fmla="*/ 1200240 h 1371600"/>
            </a:gdLst>
            <a:ahLst/>
            <a:rect l="textAreaLeft" t="textAreaTop" r="textAreaRight" b="textAreaBottom"/>
            <a:pathLst>
              <a:path w="2438400" h="1371600">
                <a:moveTo>
                  <a:pt x="0" y="1028700"/>
                </a:moveTo>
                <a:lnTo>
                  <a:pt x="342900" y="685800"/>
                </a:lnTo>
                <a:lnTo>
                  <a:pt x="342900" y="857250"/>
                </a:lnTo>
                <a:lnTo>
                  <a:pt x="1047750" y="857250"/>
                </a:lnTo>
                <a:lnTo>
                  <a:pt x="1047750" y="342900"/>
                </a:lnTo>
                <a:lnTo>
                  <a:pt x="876300" y="342900"/>
                </a:lnTo>
                <a:lnTo>
                  <a:pt x="1219200" y="0"/>
                </a:lnTo>
                <a:lnTo>
                  <a:pt x="1562100" y="342900"/>
                </a:lnTo>
                <a:lnTo>
                  <a:pt x="1390650" y="342900"/>
                </a:lnTo>
                <a:lnTo>
                  <a:pt x="1390650" y="857250"/>
                </a:lnTo>
                <a:lnTo>
                  <a:pt x="2095500" y="857250"/>
                </a:lnTo>
                <a:lnTo>
                  <a:pt x="2095500" y="685800"/>
                </a:lnTo>
                <a:lnTo>
                  <a:pt x="2438400" y="1028700"/>
                </a:lnTo>
                <a:lnTo>
                  <a:pt x="2095500" y="1371600"/>
                </a:lnTo>
                <a:lnTo>
                  <a:pt x="2095500" y="1200150"/>
                </a:lnTo>
                <a:lnTo>
                  <a:pt x="342900" y="1200150"/>
                </a:lnTo>
                <a:lnTo>
                  <a:pt x="342900" y="1371600"/>
                </a:lnTo>
                <a:close/>
              </a:path>
            </a:pathLst>
          </a:custGeom>
          <a:solidFill>
            <a:srgbClr val="000000"/>
          </a:solidFill>
          <a:ln w="47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838080" y="1905120"/>
            <a:ext cx="7086600" cy="121896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Power is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relative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– not absolute in international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"/>
          <p:cNvSpPr/>
          <p:nvPr/>
        </p:nvSpPr>
        <p:spPr>
          <a:xfrm>
            <a:off x="380880" y="3276720"/>
            <a:ext cx="2667240" cy="11430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ymme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5638680" y="3200400"/>
            <a:ext cx="2286000" cy="13716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Asymme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4038480" y="4876920"/>
            <a:ext cx="4800600" cy="18288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Power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3800" y="5066640"/>
            <a:ext cx="1993680" cy="91584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txBody>
          <a:bodyPr lIns="54720" tIns="91440" anchor="ctr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Power Relationship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1" name="Straight Arrow Connector 10"/>
          <p:cNvCxnSpPr/>
          <p:nvPr/>
        </p:nvCxnSpPr>
        <p:spPr>
          <a:xfrm flipH="1">
            <a:off x="1675800" y="4495320"/>
            <a:ext cx="76680" cy="3056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2" name="Straight Arrow Connector 11"/>
          <p:cNvCxnSpPr/>
          <p:nvPr/>
        </p:nvCxnSpPr>
        <p:spPr>
          <a:xfrm flipH="1">
            <a:off x="6629400" y="4571640"/>
            <a:ext cx="76680" cy="3056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506520" y="-6480"/>
            <a:ext cx="8326440" cy="12686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Right Arrow 5"/>
          <p:cNvSpPr/>
          <p:nvPr/>
        </p:nvSpPr>
        <p:spPr>
          <a:xfrm>
            <a:off x="609480" y="3962520"/>
            <a:ext cx="7925040" cy="609480"/>
          </a:xfrm>
          <a:prstGeom prst="rightArrow">
            <a:avLst>
              <a:gd name="adj1" fmla="val 50000"/>
              <a:gd name="adj2" fmla="val 75429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ular Callout 8"/>
          <p:cNvSpPr/>
          <p:nvPr/>
        </p:nvSpPr>
        <p:spPr>
          <a:xfrm>
            <a:off x="533520" y="3048120"/>
            <a:ext cx="1752480" cy="609480"/>
          </a:xfrm>
          <a:prstGeom prst="wedgeRectCallout">
            <a:avLst>
              <a:gd name="adj1" fmla="val -21805"/>
              <a:gd name="adj2" fmla="val 120189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Asking Nic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ular Callout 9"/>
          <p:cNvSpPr/>
          <p:nvPr/>
        </p:nvSpPr>
        <p:spPr>
          <a:xfrm>
            <a:off x="1219320" y="4800600"/>
            <a:ext cx="2057400" cy="1295280"/>
          </a:xfrm>
          <a:prstGeom prst="wedgeRectCallout">
            <a:avLst>
              <a:gd name="adj1" fmla="val -17412"/>
              <a:gd name="adj2" fmla="val -78675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ular Callout 10"/>
          <p:cNvSpPr/>
          <p:nvPr/>
        </p:nvSpPr>
        <p:spPr>
          <a:xfrm>
            <a:off x="2666880" y="2590920"/>
            <a:ext cx="1828800" cy="1218960"/>
          </a:xfrm>
          <a:prstGeom prst="wedgeRectCallout">
            <a:avLst>
              <a:gd name="adj1" fmla="val -23138"/>
              <a:gd name="adj2" fmla="val 82115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ular Callout 11"/>
          <p:cNvSpPr/>
          <p:nvPr/>
        </p:nvSpPr>
        <p:spPr>
          <a:xfrm>
            <a:off x="3809880" y="4876920"/>
            <a:ext cx="1676520" cy="1295280"/>
          </a:xfrm>
          <a:prstGeom prst="wedgeRectCallout">
            <a:avLst>
              <a:gd name="adj1" fmla="val -18314"/>
              <a:gd name="adj2" fmla="val -89736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Diplomatic Sa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ular Callout 12"/>
          <p:cNvSpPr/>
          <p:nvPr/>
        </p:nvSpPr>
        <p:spPr>
          <a:xfrm>
            <a:off x="5181480" y="2286000"/>
            <a:ext cx="1828800" cy="1371600"/>
          </a:xfrm>
          <a:prstGeom prst="wedgeRectCallout">
            <a:avLst>
              <a:gd name="adj1" fmla="val -32370"/>
              <a:gd name="adj2" fmla="val 85064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Threaten Use of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ular Callout 13"/>
          <p:cNvSpPr/>
          <p:nvPr/>
        </p:nvSpPr>
        <p:spPr>
          <a:xfrm>
            <a:off x="6248520" y="4800600"/>
            <a:ext cx="1676160" cy="1371600"/>
          </a:xfrm>
          <a:prstGeom prst="wedgeRectCallout">
            <a:avLst>
              <a:gd name="adj1" fmla="val -24694"/>
              <a:gd name="adj2" fmla="val -75587"/>
            </a:avLst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Use of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Left-Right-Up Arrow 3"/>
          <p:cNvSpPr/>
          <p:nvPr/>
        </p:nvSpPr>
        <p:spPr>
          <a:xfrm>
            <a:off x="2971800" y="4114800"/>
            <a:ext cx="2666880" cy="2133720"/>
          </a:xfrm>
          <a:custGeom>
            <a:avLst/>
            <a:gdLst>
              <a:gd name="textAreaLeft" fmla="*/ 266400 w 2666880"/>
              <a:gd name="textAreaRight" fmla="*/ 2400480 w 2666880"/>
              <a:gd name="textAreaTop" fmla="*/ 1333440 h 2133720"/>
              <a:gd name="textAreaBottom" fmla="*/ 1867320 h 2133720"/>
            </a:gdLst>
            <a:ahLst/>
            <a:rect l="textAreaLeft" t="textAreaTop" r="textAreaRight" b="textAreaBottom"/>
            <a:pathLst>
              <a:path w="2667000" h="2133600">
                <a:moveTo>
                  <a:pt x="0" y="1600200"/>
                </a:moveTo>
                <a:lnTo>
                  <a:pt x="533400" y="1066800"/>
                </a:lnTo>
                <a:lnTo>
                  <a:pt x="533400" y="1333500"/>
                </a:lnTo>
                <a:lnTo>
                  <a:pt x="1066800" y="1333500"/>
                </a:lnTo>
                <a:lnTo>
                  <a:pt x="1066800" y="533400"/>
                </a:lnTo>
                <a:lnTo>
                  <a:pt x="800100" y="533400"/>
                </a:lnTo>
                <a:lnTo>
                  <a:pt x="1333500" y="0"/>
                </a:lnTo>
                <a:lnTo>
                  <a:pt x="1866900" y="533400"/>
                </a:lnTo>
                <a:lnTo>
                  <a:pt x="1600200" y="533400"/>
                </a:lnTo>
                <a:lnTo>
                  <a:pt x="1600200" y="1333500"/>
                </a:lnTo>
                <a:lnTo>
                  <a:pt x="2133600" y="1333500"/>
                </a:lnTo>
                <a:lnTo>
                  <a:pt x="2133600" y="1066800"/>
                </a:lnTo>
                <a:lnTo>
                  <a:pt x="2667000" y="1600200"/>
                </a:lnTo>
                <a:lnTo>
                  <a:pt x="2133600" y="2133600"/>
                </a:lnTo>
                <a:lnTo>
                  <a:pt x="2133600" y="1866900"/>
                </a:lnTo>
                <a:lnTo>
                  <a:pt x="533400" y="1866900"/>
                </a:lnTo>
                <a:lnTo>
                  <a:pt x="533400" y="2133600"/>
                </a:lnTo>
                <a:close/>
              </a:path>
            </a:pathLst>
          </a:custGeom>
          <a:solidFill>
            <a:srgbClr val="000000"/>
          </a:solidFill>
          <a:ln w="47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1371600" y="2057400"/>
            <a:ext cx="5638680" cy="19810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Natural Sources of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609480" y="4114800"/>
            <a:ext cx="2210040" cy="20574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Social &amp; Psychological Components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5715000" y="4038480"/>
            <a:ext cx="2438280" cy="22860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Synthetic Components of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6:52:40Z</dcterms:created>
  <dc:creator>ED18</dc:creator>
  <dc:description/>
  <dc:language>en-US</dc:language>
  <cp:lastModifiedBy>Greg Peters</cp:lastModifiedBy>
  <dcterms:modified xsi:type="dcterms:W3CDTF">2014-03-28T11:13:53Z</dcterms:modified>
  <cp:revision>24</cp:revision>
  <dc:subject/>
  <dc:title>The Logic of Power</dc:title>
</cp:coreProperties>
</file>